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explode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suction.wav" ContentType="audio/x-wav"/>
  <Override PartName="/ppt/media/image6.jpeg" ContentType="image/jpeg"/>
  <Override PartName="/ppt/media/image5.jpeg" ContentType="image/jpeg"/>
  <Override PartName="/ppt/media/breeze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963C-A81F-48D1-B5F2-3AADD2BB3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8423-7F34-49A5-ACA2-42D88F3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4E60-DE37-4937-ADBC-33E8810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4425-E161-407C-AE53-DAB83E08E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F133-B66E-46FB-A222-75033E2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0135-E643-4750-B9E2-5676A3D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78D4-D9AC-4645-BD71-2ABE661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E891-54D3-4C89-88DC-6AFE4AC2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40A0-8937-441F-96FA-B431789B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278C-92E4-4688-B070-B1D33F13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37F6-78AB-47F6-B231-962A332F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B4A2-7AEE-4222-9B6D-E5A11127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7/05/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9D13-6B1C-430F-8C47-E81DBEE5AE7C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179280" y="1800360"/>
            <a:ext cx="8353440" cy="2700360"/>
          </a:xfrm>
          <a:prstGeom prst="flowChartPunchedTape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684360" y="620640"/>
            <a:ext cx="808488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Britannic Bold"/>
              </a:rPr>
              <a:t>Little Red Ringing Ton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34920" y="333360"/>
            <a:ext cx="2305080" cy="61466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tle Red Ringing Tone is a Little girl who lives near the forest. She is very happy with her new mobile phon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ne spring morning she hears “beep-click-beep”. It is her fax machin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re is a long list of groceries her grandma needs: cookies, sugar, ink and some washing powder, to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 Little Red Ringing Tone sends a text messag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ear Granny, don´t worry. I will be at your door with the groceries very soon.”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28760" y="744480"/>
            <a:ext cx="6784920" cy="5329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l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Rectángulo redondeado"/>
          <p:cNvSpPr/>
          <p:nvPr/>
        </p:nvSpPr>
        <p:spPr>
          <a:xfrm>
            <a:off x="108000" y="549360"/>
            <a:ext cx="2376360" cy="57592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5759280"/>
              <a:gd name="textAreaBottom" fmla="*/ 5643360 h 5759280"/>
            </a:gdLst>
            <a:ahLst/>
            <a:rect l="textAreaLeft" t="textAreaTop" r="textAreaRight" b="textAreaBottom"/>
            <a:pathLst>
              <a:path w="21600" h="52345">
                <a:moveTo>
                  <a:pt x="3600" y="0"/>
                </a:moveTo>
                <a:arcTo wR="3600" hR="3600" stAng="16200000" swAng="-5400000"/>
                <a:lnTo>
                  <a:pt x="0" y="48745"/>
                </a:lnTo>
                <a:arcTo wR="3600" hR="3600" stAng="10800000" swAng="-5400000"/>
                <a:lnTo>
                  <a:pt x="18000" y="52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60c9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3 Marcador de fecha"/>
          <p:cNvSpPr/>
          <p:nvPr/>
        </p:nvSpPr>
        <p:spPr>
          <a:xfrm>
            <a:off x="38160" y="476280"/>
            <a:ext cx="2592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, oh, no ! Her small finger presses a wrong number and hungry Wicked Pierced Wolf picks her message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cked Pierced Wolf quickly writes:”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oney dear, I´d like some flowers, too. So, please take the long path and pick them on your way.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Red Ringing Tone buys the groceries and sets off down the long path to pick the flowers for Grann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2 Imagen" descr=""/>
          <p:cNvPicPr/>
          <p:nvPr/>
        </p:nvPicPr>
        <p:blipFill>
          <a:blip r:embed="rId1"/>
          <a:stretch/>
        </p:blipFill>
        <p:spPr>
          <a:xfrm>
            <a:off x="2627280" y="835200"/>
            <a:ext cx="6184800" cy="482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395280" y="4869000"/>
            <a:ext cx="8353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5280" y="4856040"/>
            <a:ext cx="84265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nwhile, Wicked Pierced Wolf takes the short path and he soon arrives at Granny´s house. When the wolf knocks at the door, Granny´s chatting with her good friend, the Woodcutter. 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hoisit?Sheasked. “It´s me,Granny. LittleRedRinging tone.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Granny opens the door, Wicked Pierced Wolf falls on her. He ties her, hides her into the wardrobe, puts her clothes on and gets into the bed. Luckily, Granny´s webcam is on and good Woodcutter can see everything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835280" y="119160"/>
            <a:ext cx="6024600" cy="47228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wipe dir="l"/>
    <p:sndAc>
      <p:stSnd>
        <p:snd r:embed="rId2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"/>
          <p:cNvSpPr/>
          <p:nvPr/>
        </p:nvSpPr>
        <p:spPr>
          <a:xfrm>
            <a:off x="324000" y="5157720"/>
            <a:ext cx="864072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50920" y="5111640"/>
            <a:ext cx="8713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Little Red Ringing Tone knocks at the door, Wicked Pierced Wolf is very warm in bed, listening to the radio, watching the news on TV and reading Granny´s newspaper. He´s having fun and thinking “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I want to have all these things in my home”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ho is it?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He asks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“It´s me Granny. Little Red Ringing Tone.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467400" cy="5038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fade/>
    <p:sndAc>
      <p:stSnd>
        <p:snd r:embed="rId2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324000" y="5300640"/>
            <a:ext cx="820872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8360" y="4678200"/>
            <a:ext cx="77756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tle Red Ringing Tone opens the door, Wicked Pierced Wolf falls on her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 ties her up and hides her into the wardrobe with Granny.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t, while Wicked Pierced Wolf is putting Granny´s things in a big bag, the good Woodcutter calls the police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47640" y="141120"/>
            <a:ext cx="6372360" cy="4973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l"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539640" y="5040360"/>
            <a:ext cx="8099640" cy="16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70040" y="4863960"/>
            <a:ext cx="82296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y arrive just in time to catch the greedy Wicked Pierced Wolf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y free Little Red Ringing Tone and her granny and take Wicked Pierced Wolf to pris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the end, Little Red Ringing Tone and Granny thank the good Woodcutter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y are all very happy agai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1138" t="0" r="0" b="0"/>
          <a:stretch/>
        </p:blipFill>
        <p:spPr>
          <a:xfrm>
            <a:off x="1440000" y="260280"/>
            <a:ext cx="6265800" cy="4780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hecker dir="horz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9:28:52Z</dcterms:created>
  <dc:creator>Isabel</dc:creator>
  <dc:description/>
  <dc:language>en-US</dc:language>
  <cp:lastModifiedBy>Isabel</cp:lastModifiedBy>
  <dcterms:modified xsi:type="dcterms:W3CDTF">2012-05-10T18:11:39Z</dcterms:modified>
  <cp:revision>27</cp:revision>
  <dc:subject/>
  <dc:title>Little Red Ringing Tone</dc:title>
</cp:coreProperties>
</file>